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3AB-2537-43C0-8B37-23048721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19F-3E65-452E-B4DB-5B76A1F7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A5FBB-A4E3-4207-BD8F-AD920F00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56060-11DF-4D7A-9B4E-1FCAE51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C8D08-C6B1-41C4-8B73-D668B85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9CB22-653E-4A70-876D-95729DE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65E1-BF02-4334-91F0-C651799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26722-A158-4770-8213-B9F4C84C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64B33-A623-4841-87E4-B15F8F0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6DB17-9028-4F52-8D8E-9F69D186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B0BF-9B94-4A93-AB35-F4C76D6C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BE1CA-9AEB-484B-87D2-32949D98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A1C-B677-406E-9FC0-4A564177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5C280-B874-449D-83A9-73C7DF0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1A00F-E221-46FD-A347-BB60C98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D256F-FCD5-41CD-9092-CEDD73E8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826C9-8636-42B1-B52A-C11BD99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B2DF3-B73B-41E0-B128-CAEEB8E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F91DB-3C44-42D1-903B-106C714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4125-FF9B-445B-A805-A4FB9B5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45EBF-C680-4D0C-8D91-45E8145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8078B-A2D7-4EC1-AF7C-26EE861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CB3CB-969F-4562-B80C-A19599F7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54B-37BA-4FA3-9393-BE69A03E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05A54-FC97-4D12-BF23-77162F8A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2CA3-40E0-4231-B79E-063360B6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D7022-7792-4A13-A652-E5B49B4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8B4A-005E-408A-A9D8-6658CCCB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030DA-286E-4458-AC95-658668CA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0D6D8-38FD-46C4-B082-9773F09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E8EF-F442-4980-B709-77CC6E93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4866-F33E-4163-8AE1-0AFF027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474C-BB9A-4010-8494-B378F98E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C02F4-6190-458F-83F4-025C684E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F43C-56A2-41ED-97D7-88419FBF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713AE-A8D2-466C-8951-4771D2DB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E874E-FC21-478A-819C-942F7337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68D91-5980-4AF0-B42E-63EAB46E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3A3EC-9888-48DE-AF96-92061F7F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9DE84-E2C0-4C49-A7C9-2524C7E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7DAB4-9800-4452-850C-957E7C2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D003-84CF-4095-9686-262C821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DE8D-47B1-4983-A77B-56F372E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BE4AC-DDEB-497B-BA1A-2BAF907A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2A160-1944-44E3-953F-7E14A55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D18-0389-412E-9D42-A2766991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2FBA0-2E7E-45A7-B477-B3A2B45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CBE0D-309C-48CF-9F03-E0A3FE7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81AEB-3E17-40C4-AD41-56A43421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22AC1-9BE3-4F02-9E4A-96D41525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6D2A1-80F5-40AA-96DB-3B9102B3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90F23-F4FB-4A16-A57D-45A19344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47D98-6EF3-42CD-A7CD-09D1F8F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EBF08-B576-4723-9251-E3B60B1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0963E-4888-4D29-A0C2-FDB0F9D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71C3C-BD77-4384-8A8A-B618CF7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3621-501F-4D80-BD3C-1B725FD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9DAFF-4A9A-40F2-B9CF-2AFEF612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245F3-92B9-469E-BDAA-CDD9A83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9317-BCEA-4ECE-9A61-5DA91328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5E5D1-2A6C-4159-81E7-DAED6E2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BA5EF-6215-4059-912A-C3ACEC7E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53C03-8815-4BE0-B63A-C998C5EB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99474-BAE2-4789-9A50-A3CD297B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C8895-3AE7-4B58-8295-06CC4B01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10B33-29E2-4C94-BEE4-90CE5D2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B157F-DFE6-43AC-87AA-4D696E47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7E2B-FA7D-4EF1-93CD-FB4EF23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A8396-B64F-40B1-906E-A8E08858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D69ED-22DA-4EFB-A092-0530327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40EB6-ADD8-4300-A985-AEFB5347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0D199-6A4C-44A3-A44E-BDA6ECB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A230A-CA0E-463A-BE60-5D62CF3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DF34D-EC90-4FD5-8D31-F0998BA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846D2-39F7-401E-9BDD-9525AB5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A7809-BE8D-4EA9-B079-D72CFB9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E2206-9D56-4367-B223-45F12B5B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AC918-F098-40C0-B151-9ABAD179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A47A-683F-4B7C-AE3E-C7EF905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D767A-F5EF-48FC-AF17-FE300B33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BFD8C-530B-427E-A126-EE288B7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FBF9A-F0B1-4407-AAD5-D26504D2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E0130-C50A-4472-B98E-3E8A0C95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621FA-7B60-4AD2-A414-A06E1E3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2BE9A-4B52-475E-BF26-2DB1F18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7CCFF-24F3-4360-829B-C2F1E2A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3C905-60C1-4FDF-93C2-A915970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3C814-005A-40DD-9BCF-DB9A1D97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845A3-976D-40EE-AD07-1B522D67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9AB-7851-4A46-8ED8-97B322C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D253C-4C35-4F2F-A528-0BA91AE1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DA34D-03DF-4174-A118-FD4C609F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26998-46B2-4484-8147-50F7292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D7382-D59D-4AF1-9A28-09EAF13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2F488-CDCB-4676-B768-D5E7CAD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D6148-9C32-477F-B25E-A173567E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87399-AF2A-43C8-81ED-103EDDD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72CA4-8679-4666-9DC9-BCF5F18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18356-34B5-433B-96FE-AAFCD351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40157-A79A-43D9-AACC-236581E3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8E80-7D52-447C-BA32-032AAB3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5E61E-279F-44BE-AE17-58FE561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0AB74-90A8-4149-B0DA-AEA113A4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805C7-CE6E-4E56-A9F4-736D1ACA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D2E12-1104-4905-935B-10A0B1AE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EED78-0EE7-4D2D-AF71-30FD2E10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89CD3-59D6-420D-AAF7-8003264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601D2-FBBC-43F2-965F-2922838B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5109C-4E9D-44C2-922A-5A79A29B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46783-5EA4-4554-941D-62B932C7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1B6B6-FA65-4EB5-BF0B-1DDAD09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504-CCDC-45E1-9466-158AE99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24F-2644-46B0-A38E-7A3ABBD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ECB5E-E827-4732-8BBE-589731E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5572B-FECF-41F2-B71F-EF60120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E25E1-506C-462A-B9E6-F465CE6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E6C10-9DD7-4F3F-BAF3-FFA2ED2C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259E3-5E62-4086-842F-6456EA60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B792D-B567-4FFD-BE8C-D8E7E186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C64CB-76CD-4B54-887E-FA6BED86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7B09A-C46E-4FB4-8D51-BAE3868B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7BA42-D5D4-423C-AFD0-C8DD616E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EF122-FF6F-43E6-838E-8A31A5C0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2FE-27BF-4511-8469-5925E8E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98D10-1CC6-4BA3-80F7-435323E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AB2EA-9B8A-4130-91F1-D2AE6D9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D78E4-21A2-4ABA-B916-6BB6ECB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20598-FCFD-4E7F-8713-992F7DA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BE885-2685-4AAA-B9C4-558D7D67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AB45C-2162-46F4-8551-28F2E588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5E15D-F8DF-4F1D-B378-1716ABE6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5BEC6-857A-417F-9748-09DEE77D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8DE36-58F5-4AE5-9F89-4E2B28ED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8022B-F05D-4732-A9C1-FA62FD7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19D-1648-42E3-AE8E-92DF6FE0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4C866-DCB4-42FC-8744-A1194D59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1F9E8-84D4-49FB-976C-DB94FDF9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78131-125A-427A-BEE6-E6B8A037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8B50DA-BEF4-49BB-96F5-ACBBAA5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2B9C6-42C4-4CB1-881E-3EF02DD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548C6-1817-4EF8-8166-B6DCDA6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E9A883-51FE-48D6-BD19-2F68DD2D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11E7E-1002-4DB7-AC8C-9871468B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7ECD7-C1D0-4894-9752-022F9BC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625D4-BF3F-407E-A5BB-FCDEE19C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E22-D42B-4BB0-9D94-CD9B58DA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62A84-EF25-4872-9191-A6F60AD4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44D1B-77EB-478D-9151-FE4A1E5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BCBD2-4D5D-442B-ABA3-F4C6D8C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093F56-F7FD-4DDA-91BF-90D2998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3FF81-7BC3-4C4E-9FBA-4EF603C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B097E-9126-44B4-A4C8-3FED8D2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51340-22E9-44FE-8C01-019C015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E6A0B-4A41-4140-8B46-AF5B11D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1EB00-A509-46F5-AB04-B73AEC34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6E83F-A10B-49AB-95A4-18D935A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71D7-B7DF-477C-8D82-D0CEFDCB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DF40D-035B-4E75-916D-7A556FA6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D66F0-9865-497B-86C5-BE6260CB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6A985-7BB4-44B4-BD58-8522DEF2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13BA0-9E38-4D29-BDE6-1CD0E4C0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B97D3-BF9B-484E-B368-BD5601C6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6983F-3754-4B5E-868B-44DC526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94765-3073-422D-823C-C868672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745C27-A298-4E60-BF2C-AA4AE89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71DC5-9357-4ECA-8BC2-32BE750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9E700-B55E-46E0-AF94-B53E2EE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6B4C-A236-4675-8D66-4DE8EC95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FB9F1-EF01-43E6-9DFB-B41DBCF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63C52-0277-427C-938C-E2367FE9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98F37-AC0F-45B6-BDC5-5C47A221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58B1-0CE2-4D90-A1E9-D02B2F4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BC48-9CC3-4042-A5CE-58D4BE2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1927-B50A-4E24-9971-6A67C3B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3BBE-59C6-440B-926A-FAFEAD6E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DBF-A14C-4287-9DBB-CBC1398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D945-4A6B-4B24-99E1-0B8ACBB1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9473-FCF4-4E35-8FB7-9A42B2B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D320-1A7B-41B4-B44B-E458E44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071D-B788-4E1B-9766-F6CD410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C936-1D42-42A2-8E69-B5647DB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3CF7-C0A0-4121-B646-382617BC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72E5-093A-4D47-8ECC-40F81AF9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C675-A512-4B72-A311-B8782D6A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8CAF-2BB5-46A6-9050-3E1710D4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9F43-D538-420B-972F-E6E9496B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DB1-72E5-46F4-842F-B531A0D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7658-B27E-4380-98D8-4B3A99A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8AE1-2F3B-4CC0-9F8B-D8B6792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2150-5A73-4BA6-9D9B-D152FA7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C203-5C5E-45FB-9B46-CDB3DB5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6CF8-DE60-4BFB-8BF3-BFC9AE8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5DA7-3268-4D02-81CD-2E32230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8718-ED10-4F84-B2A6-5D023F40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A27C-A07F-405A-9A09-C54F37D9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FDE7-7D87-49B7-9316-7E57558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A55A-0B31-4EB3-B50D-5A02E7BB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DE3-976D-4D10-8D37-869D96C8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C264-782D-4D68-B946-280158CA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AB8D-06DF-4B96-90B1-09F9583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D9E7-1E92-494C-AC0E-44563E7A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D0EF-5E9D-4F6F-A774-D49D2579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E9C3-9B2F-4035-BD26-C492B2AC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D97B-82C1-48B0-9679-4CAA976C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A090-6B1C-42E0-ABAB-2E824AD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8AB8-8298-4940-B276-E1FF7F3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3B84-DADD-4B75-94EE-B64FFD51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C6F3-9523-40DF-BCA5-DEAC1DC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F21-B54D-4AEF-8B1D-1AED3351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A3CB-9F21-435E-BE11-650B8AE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B83F-646C-413D-93A1-D646AA89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BCDA-B4EF-43DE-873C-26BE3D8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B58F4-B17E-4214-B4A5-2D6DFCE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CA15-710D-4576-BD67-6F863A0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4030-FCEA-4BF3-8A8A-C8FE4CC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EEBA-7CD7-4701-83F0-C506AE70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1CEB-6886-4052-9AAD-9627EA7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E410-70BF-4FC5-9B7F-F48B374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DD3E-063C-4EA5-9503-B93F133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9BE-5EB8-4919-BBE0-90F855A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9125-F00B-4C95-B2E3-DD752B3B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915C-9908-4E20-8BB4-BDEBC582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9460D-C825-4C18-8F4F-18F613F1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CC7A3-0FDC-4329-839B-426648FD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28D1-6690-424E-ADDF-8C8C4A2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3B51-99C9-4AC7-BD02-1D8F36C1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00E0-2B01-4B3B-9E01-94B5039A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26AC-27DB-4024-B44B-0964A39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7C98-E63A-44BA-857C-DC75C84A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9F41-FA8B-4B4E-BD8D-8DE17B6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2D0-896D-4B1D-953F-953647A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41DF-7189-4819-A563-9BF7151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C902-6D0E-45C7-9888-70279F1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0717-CA6C-42DB-8D2E-2D9593A9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8B2F7-17CA-4920-A668-C51106B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5636-AE35-4647-AC82-AA95AA2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A8A1-038C-4527-8709-19C0BDF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46B1-1554-4F8A-946F-9AAE123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3044-9564-4D2B-8936-BF6A614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D623B-9D06-4230-9FBF-894F156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4F74-8BF2-4A5F-A737-7E50AD8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907-46B9-4A17-ACC0-9EED0D9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92F3-42C7-4571-9E75-E0E7AAD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78BF-E695-4171-B5E0-671C837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36618-E798-4990-8F0D-6554039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D40F-CC2F-45F8-BC4E-B149173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3B7D-8064-44FB-BE11-55A41BAD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E03B-A76E-40D4-9A6A-D9EB17A2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717E-1578-4814-909C-8D0139D1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2E400-80C5-42ED-A18D-685B1C28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2C7F-D2E4-45AA-BE6F-D56760D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B59C7-04BB-449B-8439-3A37739D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176-9502-490F-812A-153C69EAB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1C7-040D-4109-ACBC-27AAB4419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1D1-EDA7-4CC7-AFF8-1B296836D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1967-1478-4E5C-B087-8A2C1EA50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625-5153-40F4-9154-61A06C66F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3A0-E91E-4C5D-8EF0-733B7DBE8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03E-56E5-4677-A162-49F51F5D9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331-49F6-4731-A442-B3BFD61C0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397-300C-4F7A-A52E-9941E0F95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193-B43D-4EF5-8FBF-7C9DB4CA0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0D05-DF3B-4F2F-951B-01E93E2F0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3C39-62DF-4B7A-AA10-A5B04E6ABA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D29-6349-4D29-8CA7-F6EE88BCE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0686-F13D-45DB-AB96-66DAE6D9F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CF6-5211-49BB-9FC3-B527F35C8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49B-9AFE-4DE4-BE39-936424DC2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6595-0727-4402-BDD1-F30DEE378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64B1-9BC8-41CF-A3BF-A5863FD6C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63E-D4B3-47C8-AF84-47C045E23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A40-88A0-4D7A-9332-CCDAF8647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4C9-9DF7-4110-A861-68F6324CC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5FE-7BEB-46DF-922C-1B642374F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C7B3-9A74-4AA7-BB14-AEE17BC6E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9D60-9F06-4925-B7AD-F10995142E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12DB-431C-4520-8078-8C5B71E24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7CE-B247-48D4-AF46-661C908F0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972-EA32-4428-918E-10199F7ED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4F4-7716-42C3-8E24-E640B5B03A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CC1-31C0-4C07-AED0-622CA4E85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1BB6-4F7E-410C-A3F5-1F175FDA3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8C81-B927-4793-83FC-5A53D0B0B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BD6B-5BB4-41A0-82BA-2264EB66D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1DB-B854-4177-A027-BCAD3ECF7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2C4-7C8A-4635-9F06-9A481CE12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1F3-73A3-4A89-9C1F-4C18CE216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453-09B8-460C-BE1E-B5BC645DB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F2C-A0FD-40B0-8A90-EF5EC0347B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590-0E87-44D0-A2F3-886BF08E0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058F-1173-4041-9C50-1AA2A182A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EB5-A96B-4082-9CC6-99A9DA5D5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24360" y="3124080"/>
            <a:ext cx="3095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1652760"/>
            <a:ext cx="8886960" cy="3552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277164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059280" y="314172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87640" y="3860640"/>
            <a:ext cx="649440" cy="320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6080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4328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9444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77280" y="4653000"/>
            <a:ext cx="5140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52280" y="876240"/>
            <a:ext cx="8839440" cy="5505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885080" y="351000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1332000" y="458136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3924360" y="459108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667640" y="458136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195640" y="495144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6156360" y="494172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4427640" y="530064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7380360" y="530064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3193920" y="5670720"/>
            <a:ext cx="576360" cy="320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7956720" y="568008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2968560" y="602136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4"/>
          <a:stretch/>
        </p:blipFill>
        <p:spPr>
          <a:xfrm>
            <a:off x="5705640" y="6021360"/>
            <a:ext cx="5760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114480" y="1938240"/>
            <a:ext cx="8915400" cy="298152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8374" descr=""/>
          <p:cNvPicPr/>
          <p:nvPr/>
        </p:nvPicPr>
        <p:blipFill>
          <a:blip r:embed="rId2"/>
          <a:stretch/>
        </p:blipFill>
        <p:spPr>
          <a:xfrm>
            <a:off x="6751800" y="3070080"/>
            <a:ext cx="2257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6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